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3-</a:t>
            </a:r>
            <a:fld id="{77940476-709D-48EE-8A84-82082273718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composing a Function as a Composi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lculus, one needs to recognize how a function can be expressed as the composition of two functions. This can be thought of as “decomposing”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ises 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 to the fourth power. Two functions that can be used for the composi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an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1676520"/>
          <a:ext cx="253548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2535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066680" y="4419720"/>
          <a:ext cx="388620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19720"/>
                    <a:ext cx="38862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osition of Func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omposition of two functions and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f the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a function as a composition of two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osition of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6680" y="2239920"/>
          <a:ext cx="694692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39920"/>
                    <a:ext cx="69469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33400"/>
          <a:ext cx="1600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33400"/>
                    <a:ext cx="1600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47920" y="2743200"/>
          <a:ext cx="495288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4952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191120" y="1752480"/>
          <a:ext cx="15238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1523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1733400"/>
          <a:ext cx="1600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33400"/>
                    <a:ext cx="1600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2743200"/>
          <a:ext cx="49528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49528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191120" y="1752480"/>
          <a:ext cx="15238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1523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1676520"/>
          <a:ext cx="158256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1582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71600" y="2743200"/>
          <a:ext cx="34290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743200"/>
                    <a:ext cx="34290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114800" y="1676520"/>
          <a:ext cx="150660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676520"/>
                    <a:ext cx="15066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1676520"/>
          <a:ext cx="158256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1582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380960" y="2666880"/>
          <a:ext cx="4172040" cy="14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0960" y="2666880"/>
                    <a:ext cx="41720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14800" y="1676520"/>
          <a:ext cx="150660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676520"/>
                    <a:ext cx="15066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467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                                              , fi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t defined for negative radicands.  Since the inputs of           are the outpu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domain of           consists of all the values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nnegativ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4600" y="1676520"/>
          <a:ext cx="16495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1649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23880" y="4648320"/>
          <a:ext cx="121932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6483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12960" y="1066680"/>
          <a:ext cx="42670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2960" y="1066680"/>
                    <a:ext cx="4267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00400" y="3124080"/>
          <a:ext cx="89064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124080"/>
                    <a:ext cx="8906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895480" y="3581280"/>
          <a:ext cx="8906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581280"/>
                    <a:ext cx="8906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20040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mai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105520" y="5562720"/>
          <a:ext cx="3460680" cy="35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05520" y="5562720"/>
                    <a:ext cx="34606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7:47Z</dcterms:modified>
  <cp:revision>215</cp:revision>
  <dc:subject/>
  <dc:title>No Slide Title</dc:title>
</cp:coreProperties>
</file>